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3508-D43E-4FD5-A4B2-A7FACE852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8B67-0096-4D0B-B6AC-A80B63232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FF2-E0F0-47F4-AECE-98EE6C6F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CAE-1274-4CF9-8276-6E6369AD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0CF-DBA2-4E7B-9FEF-1C851C85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DE6-2A0A-4A65-B857-D9B1A15E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CD6-CF2E-4281-BAF1-7897CC60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91C-37B4-4B82-9857-9BD26C17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F27-3C77-486B-A8C7-9D88DCD4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5F95-F505-46D3-A2B8-4F539B7B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D458-1B94-4C6D-BF40-CE97E16D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3DA-BA26-45F6-8A07-D26C3A9A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BF40-92EE-42A8-A8B5-D16C1678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8331-F5F8-4A6B-9A9A-87E26461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1937-CAAB-46E9-9F1B-27CCEC000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81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dia Ud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adia Udd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adia Uddi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adia Uddi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adia Udd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19520" y="1143000"/>
            <a:ext cx="83808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6002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 nombre es Sadia Uddin. Yo tengo catorce años y vivo en New York. Yo soy joven y amo Uno Dirección y música. Yo soy tímida pero divertida. Yo soy encantadora y entusiástic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 no antipática.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 estoy no triste y activa.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68580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4"/>
          <p:cNvSpPr/>
          <p:nvPr/>
        </p:nvSpPr>
        <p:spPr>
          <a:xfrm>
            <a:off x="152280" y="6400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a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9456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hfooz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819520" y="3886200"/>
            <a:ext cx="38862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Sa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nemos que ir a las 12 horas. Son las doce de la tarde cuando lo empiez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 tienes a comer tu popcorn. Nosotras estamos jov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.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cembre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5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00400"/>
            <a:ext cx="38862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Nouree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, Sadia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í, ¿a qué hora? Usted necesita su dinero y y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sesita mis diner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cembre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5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2438280"/>
            <a:ext cx="388620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Sa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Noureen! ¿Puedes ir al cine? La cine están al final de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loque.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cembre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5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819520" y="45720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Noureen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ios, Te veré ha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Dicembre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19520" y="5181480"/>
            <a:ext cx="388620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Sa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la dio una hoja y él dio una hoja también. Sus tarea es fácil y ell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jeron es divertida. Nosotras somos buena estudiante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Dicembre 6, de 2012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5943600"/>
            <a:ext cx="388620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Mahfooz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ál es la tare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Dicembre 7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a! ¿Cómo estás ustede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154800" y="5715000"/>
            <a:ext cx="44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0.png"/>
          <p:cNvPicPr/>
          <p:nvPr/>
        </p:nvPicPr>
        <p:blipFill>
          <a:blip r:embed="rId1"/>
          <a:stretch/>
        </p:blipFill>
        <p:spPr>
          <a:xfrm>
            <a:off x="152280" y="6019920"/>
            <a:ext cx="533520" cy="39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0.jpeg"/>
          <p:cNvPicPr/>
          <p:nvPr/>
        </p:nvPicPr>
        <p:blipFill>
          <a:blip r:embed="rId2"/>
          <a:stretch/>
        </p:blipFill>
        <p:spPr>
          <a:xfrm>
            <a:off x="685800" y="533412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6" descr="0.jpeg"/>
          <p:cNvPicPr/>
          <p:nvPr/>
        </p:nvPicPr>
        <p:blipFill>
          <a:blip r:embed="rId3"/>
          <a:stretch/>
        </p:blipFill>
        <p:spPr>
          <a:xfrm>
            <a:off x="1371600" y="5334120"/>
            <a:ext cx="601560" cy="401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0.jpeg"/>
          <p:cNvPicPr/>
          <p:nvPr/>
        </p:nvPicPr>
        <p:blipFill>
          <a:blip r:embed="rId4"/>
          <a:stretch/>
        </p:blipFill>
        <p:spPr>
          <a:xfrm>
            <a:off x="2057400" y="327672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image.jpeg"/>
          <p:cNvPicPr/>
          <p:nvPr/>
        </p:nvPicPr>
        <p:blipFill>
          <a:blip r:embed="rId5"/>
          <a:stretch/>
        </p:blipFill>
        <p:spPr>
          <a:xfrm>
            <a:off x="76320" y="5334120"/>
            <a:ext cx="533160" cy="399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6" descr="0.jpeg"/>
          <p:cNvPicPr/>
          <p:nvPr/>
        </p:nvPicPr>
        <p:blipFill>
          <a:blip r:embed="rId6"/>
          <a:stretch/>
        </p:blipFill>
        <p:spPr>
          <a:xfrm>
            <a:off x="2133720" y="6095880"/>
            <a:ext cx="601560" cy="401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0.jpeg"/>
          <p:cNvPicPr/>
          <p:nvPr/>
        </p:nvPicPr>
        <p:blipFill>
          <a:blip r:embed="rId7"/>
          <a:stretch/>
        </p:blipFill>
        <p:spPr>
          <a:xfrm>
            <a:off x="2057400" y="464832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8" descr="0.png"/>
          <p:cNvPicPr/>
          <p:nvPr/>
        </p:nvPicPr>
        <p:blipFill>
          <a:blip r:embed="rId8"/>
          <a:stretch/>
        </p:blipFill>
        <p:spPr>
          <a:xfrm>
            <a:off x="-457200" y="414360"/>
            <a:ext cx="2819520" cy="1884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0" descr="0.png"/>
          <p:cNvPicPr/>
          <p:nvPr/>
        </p:nvPicPr>
        <p:blipFill>
          <a:blip r:embed="rId9"/>
          <a:stretch/>
        </p:blipFill>
        <p:spPr>
          <a:xfrm>
            <a:off x="1981080" y="2438280"/>
            <a:ext cx="914400" cy="61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1" descr="0.png"/>
          <p:cNvPicPr/>
          <p:nvPr/>
        </p:nvPicPr>
        <p:blipFill>
          <a:blip r:embed="rId10"/>
          <a:stretch/>
        </p:blipFill>
        <p:spPr>
          <a:xfrm>
            <a:off x="1981080" y="3886200"/>
            <a:ext cx="914400" cy="611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2" descr="0.png"/>
          <p:cNvPicPr/>
          <p:nvPr/>
        </p:nvPicPr>
        <p:blipFill>
          <a:blip r:embed="rId11"/>
          <a:stretch/>
        </p:blipFill>
        <p:spPr>
          <a:xfrm>
            <a:off x="1981080" y="5334120"/>
            <a:ext cx="91440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26:25Z</dcterms:created>
  <dc:creator>FriscoISD</dc:creator>
  <dc:description/>
  <dc:language>en-US</dc:language>
  <cp:lastModifiedBy>NYCDOE</cp:lastModifiedBy>
  <dcterms:modified xsi:type="dcterms:W3CDTF">2012-12-07T14:06:27Z</dcterms:modified>
  <cp:revision>117</cp:revision>
  <dc:subject/>
  <dc:title>Profile</dc:title>
</cp:coreProperties>
</file>